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06D-CC76-4ED4-B7D3-03B29C26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D29-88A1-4D4F-9EB2-5254DA93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D65-341F-4F42-9C99-8342CED5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C5C-FE86-4086-99D2-EC06DAAE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B3F-1C56-462C-BD98-0ADB29CA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C91-88E7-422C-8FD1-2EE210D7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B80-2A63-40AA-9CEF-9C530005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8F6-BEE4-4CA5-91F3-E9B82038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AE3-9E94-4E86-8C71-BBF68CF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A83-6F65-429C-A544-4A159481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234-FBFE-4CB4-BB97-0D3C70F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953-EAB9-4BFD-B707-3B5E6D49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7BCF-FD1A-4C23-9936-245D443AA3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8720" y="1981080"/>
            <a:ext cx="79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founding I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Different Study Desig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600200" y="1676520"/>
            <a:ext cx="61722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371600"/>
            <a:ext cx="58676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828800" y="1387440"/>
            <a:ext cx="59436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447920"/>
            <a:ext cx="64771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420920"/>
            <a:ext cx="6248160" cy="423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4480" y="5410080"/>
            <a:ext cx="12956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4T18:07:00Z</dcterms:modified>
  <cp:revision>218</cp:revision>
  <dc:subject/>
  <dc:title>Slide 1</dc:title>
</cp:coreProperties>
</file>